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1241-AB1C-43B9-9933-42C17EBF2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06D4-530F-4E25-8800-1CC160A5E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29B-D882-434F-B212-5FFCDEF9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659-0D29-452C-95CD-B94061AD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15C-4422-4C66-B493-892CF676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F5A-D075-4FAC-97A2-9EE61997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A028-7805-451F-B104-456F2E4B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CE70-9CA9-470E-AEB6-7837E5E6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EB5-82A7-459F-A855-244CE7BD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A8CF-C266-4B8B-8A8F-652791B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E90F-D63D-4EEF-B125-39D1FFD3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8573-8BB0-47E7-BF07-214DAE7A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C135-AF35-4C83-B070-3A02C27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FFD-5D2F-45CB-8BF3-5E3D94AC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AA67-A8C5-44A2-BBCF-8D71CBAE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8C24-C39E-464F-9393-E460598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E697-27F8-49B8-AB58-86D05FD5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4000-B7F8-4EBA-A28B-9EE54E8C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6314-D226-453E-B57A-9D99D18B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404-9BE3-4FE4-87D7-98D3AF94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856-A5E4-4244-9BC8-B532A4E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17D-2B75-427F-AC08-4B65F990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E20-A795-4C25-92FD-CD434FF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D8F-14AA-40E3-8704-9E41A1CB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1FD-0F4E-46CC-8317-CF93BA78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F75-BAF0-41FF-98FF-459905E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72605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d892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8924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6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edee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1981-41C5-4A1F-949D-95ED5DA51AD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d89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d89243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726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72605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de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edee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C6C4-99ED-42AF-97F4-E243F0C9CA47}" type="slidenum">
              <a:rPr b="0" lang="ru-RU" sz="1400" spc="-1" strike="noStrike">
                <a:solidFill>
                  <a:srgbClr val="dedee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ИТОГИ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муниципального этапа  олимпиад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020-2021.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езультаты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Э РОШ и РЭ ВсОШ</a:t>
            </a:r>
            <a:br>
              <a:rPr sz="48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исамова Л.Ф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5.03.2021</a:t>
            </a:r>
            <a:br>
              <a:rPr sz="6000"/>
            </a:b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основным общеобразовательным организация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2060640"/>
          <a:ext cx="8928000" cy="472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1008000"/>
                <a:gridCol w="3672000"/>
              </a:tblGrid>
              <a:tr h="98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31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победителей и призеров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4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8000" y="907920"/>
          <a:ext cx="8928000" cy="5288040"/>
        </p:xfrm>
        <a:graphic>
          <a:graphicData uri="http://schemas.openxmlformats.org/drawingml/2006/table">
            <a:tbl>
              <a:tblPr/>
              <a:tblGrid>
                <a:gridCol w="4087800"/>
                <a:gridCol w="1600200"/>
                <a:gridCol w="1746360"/>
                <a:gridCol w="1493640"/>
              </a:tblGrid>
              <a:tr h="25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-20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-202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-20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312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ые данные по количеству призовых мест на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0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887400"/>
          <a:ext cx="8928000" cy="5926320"/>
        </p:xfrm>
        <a:graphic>
          <a:graphicData uri="http://schemas.openxmlformats.org/drawingml/2006/table">
            <a:tbl>
              <a:tblPr/>
              <a:tblGrid>
                <a:gridCol w="4822920"/>
                <a:gridCol w="1090440"/>
                <a:gridCol w="1111320"/>
                <a:gridCol w="952560"/>
                <a:gridCol w="950760"/>
              </a:tblGrid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052640"/>
          <a:ext cx="8928000" cy="5784840"/>
        </p:xfrm>
        <a:graphic>
          <a:graphicData uri="http://schemas.openxmlformats.org/drawingml/2006/table">
            <a:tbl>
              <a:tblPr/>
              <a:tblGrid>
                <a:gridCol w="144360"/>
                <a:gridCol w="934920"/>
                <a:gridCol w="2343240"/>
                <a:gridCol w="1185840"/>
                <a:gridCol w="792360"/>
                <a:gridCol w="503280"/>
                <a:gridCol w="576000"/>
                <a:gridCol w="439920"/>
                <a:gridCol w="2008080"/>
              </a:tblGrid>
              <a:tr h="222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зам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уллина Альбина Фаляхутди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,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 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еева Валентина Ив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пцова Ольга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Гулия Габдраза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олева Ольга Евген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липп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а Миляуша  Мансу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Биектау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ухв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лю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иева Людмил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2021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12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11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2 учащихся по предмету «Химия» (18 % от общ. кол. участ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- 6 призовых мест (31,6%) - 20 место в Республике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- предмет «Физика», «Математика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ли 50 % и выше баллов – «Английский язык», но не стали призе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907920"/>
          <a:ext cx="8928000" cy="4951440"/>
        </p:xfrm>
        <a:graphic>
          <a:graphicData uri="http://schemas.openxmlformats.org/drawingml/2006/table">
            <a:tbl>
              <a:tblPr/>
              <a:tblGrid>
                <a:gridCol w="942840"/>
                <a:gridCol w="2903760"/>
                <a:gridCol w="1162080"/>
                <a:gridCol w="871200"/>
                <a:gridCol w="508320"/>
                <a:gridCol w="507960"/>
                <a:gridCol w="581040"/>
                <a:gridCol w="1450800"/>
              </a:tblGrid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ния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лакова Н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ванова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нну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рмолаева С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05264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 16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7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   1 учащийся по предмету «Биология» (12 % от общ. колич. участ.) (2020 год – 1 призер (11%)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– предмет «Химия», «ОБЖ», «Географ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приглашенных ежегодно не участвуют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Физика», «Астрономия», «Экономика» (2020-1), «Право» (2019 -2), «Обществознание» (2019 -2), «Экология» (2019 -1), «Математика», «Истор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учащихс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4-8 классов по предмета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1080" y="2133720"/>
          <a:ext cx="8854920" cy="3876480"/>
        </p:xfrm>
        <a:graphic>
          <a:graphicData uri="http://schemas.openxmlformats.org/drawingml/2006/table">
            <a:tbl>
              <a:tblPr/>
              <a:tblGrid>
                <a:gridCol w="1800000"/>
                <a:gridCol w="1944720"/>
                <a:gridCol w="1366920"/>
                <a:gridCol w="720720"/>
                <a:gridCol w="576360"/>
                <a:gridCol w="503280"/>
                <a:gridCol w="433080"/>
                <a:gridCol w="1509840"/>
              </a:tblGrid>
              <a:tr h="414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адиева Н.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таулл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м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ибуллина Л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матзяноваГ.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35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фигуллин Н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4-8 классов, по предметам, 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08000" y="1773360"/>
            <a:ext cx="87850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7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4 учащихся (57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учащийся по предмету «Математика» (25 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– призеров нет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овали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Химия», «Физика», «Астрономия», «Экономика» , «Право», «Обществознание», «Экология», «История», «Географ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рно приглашаются на республику по предмета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иология» (2019 -1 учащийся - призе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тематика» (2019 -2 учащихся (1призер), 2020 -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Ж»  (2019 -1, 2020 -3 учащихся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74216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8000" y="1197000"/>
          <a:ext cx="8928000" cy="1870200"/>
        </p:xfrm>
        <a:graphic>
          <a:graphicData uri="http://schemas.openxmlformats.org/drawingml/2006/table">
            <a:tbl>
              <a:tblPr/>
              <a:tblGrid>
                <a:gridCol w="1800000"/>
                <a:gridCol w="1943280"/>
                <a:gridCol w="1368360"/>
                <a:gridCol w="720720"/>
                <a:gridCol w="576360"/>
                <a:gridCol w="503280"/>
                <a:gridCol w="431640"/>
                <a:gridCol w="1584360"/>
              </a:tblGrid>
              <a:tr h="4874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литература (тат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гатул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фиуллина С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снутдиноваЛ.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43" name="TextBox 4"/>
          <p:cNvSpPr/>
          <p:nvPr/>
        </p:nvSpPr>
        <p:spPr>
          <a:xfrm>
            <a:off x="108000" y="3284640"/>
            <a:ext cx="878508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я Татарстан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сский язык» (тат школ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ьный этап РОШ И ВсОШ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ая информационная система 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2060280"/>
            <a:ext cx="8856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данных учащихся 4-11 классов ОО и учителей –предметнико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результатов ШЭ олимпиад после каждой олимпиа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ужно сделать анализ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000" y="752400"/>
          <a:ext cx="8928000" cy="5935680"/>
        </p:xfrm>
        <a:graphic>
          <a:graphicData uri="http://schemas.openxmlformats.org/drawingml/2006/table">
            <a:tbl>
              <a:tblPr/>
              <a:tblGrid>
                <a:gridCol w="1944720"/>
                <a:gridCol w="2232000"/>
                <a:gridCol w="1224000"/>
                <a:gridCol w="863640"/>
                <a:gridCol w="431640"/>
                <a:gridCol w="360360"/>
                <a:gridCol w="360360"/>
                <a:gridCol w="1511280"/>
              </a:tblGrid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ева А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йрие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матвалеева К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 лит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мо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упова Р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 Р.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фе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ико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ю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Э. 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зутдинова Ф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.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еева А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96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у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бутдиноваЧ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йзуллина Р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маева Р.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илова Г.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50920" y="1052640"/>
            <a:ext cx="8713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 «Родной язык», «Родная литература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3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18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8 учащихся ( 44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уют 4 класс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учащиеся всех подгруп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250920" y="1052640"/>
            <a:ext cx="871380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5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20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9 учащихся ( 4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ие показатели по предмет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еолог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» для обучающихся школ с татарским языком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атарский язык» для русскоязычных обучаю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8920" y="189000"/>
            <a:ext cx="8775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глашены – 62 учащихся (из них 6 ходатайст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аствовали – 43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– 19 учащихся ( 30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личество призеров – 13 ( 30 %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ОШ «Путь к олимпу» – 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Э ВсОШ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8 классы –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11 классы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на заключительном этапе Республиканской и   Региональном этапе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drawingml/2006/table">
            <a:tbl>
              <a:tblPr/>
              <a:tblGrid>
                <a:gridCol w="2087640"/>
                <a:gridCol w="3241800"/>
                <a:gridCol w="1655640"/>
                <a:gridCol w="1152720"/>
                <a:gridCol w="647640"/>
              </a:tblGrid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Ново-Арыш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Биектау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"Большеелг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Верхне-Тимерлек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Рыбно-Слободская СОШ №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й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с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341360"/>
          <a:ext cx="8928000" cy="4921200"/>
        </p:xfrm>
        <a:graphic>
          <a:graphicData uri="http://schemas.openxmlformats.org/drawingml/2006/table">
            <a:tbl>
              <a:tblPr/>
              <a:tblGrid>
                <a:gridCol w="3095640"/>
                <a:gridCol w="431640"/>
                <a:gridCol w="792360"/>
                <a:gridCol w="720720"/>
                <a:gridCol w="576000"/>
                <a:gridCol w="792360"/>
                <a:gridCol w="844560"/>
                <a:gridCol w="877680"/>
                <a:gridCol w="797040"/>
              </a:tblGrid>
              <a:tr h="12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и МЭ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участни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участников  от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зеров в 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57360"/>
          <a:ext cx="8640720" cy="4484520"/>
        </p:xfrm>
        <a:graphic>
          <a:graphicData uri="http://schemas.openxmlformats.org/drawingml/2006/table">
            <a:tbl>
              <a:tblPr/>
              <a:tblGrid>
                <a:gridCol w="3527280"/>
                <a:gridCol w="1513080"/>
                <a:gridCol w="1800000"/>
                <a:gridCol w="1800360"/>
              </a:tblGrid>
              <a:tr h="79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Е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ключительного этапа Республиканской и   Регионального этапа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920" y="1844640"/>
          <a:ext cx="9074160" cy="4970520"/>
        </p:xfrm>
        <a:graphic>
          <a:graphicData uri="http://schemas.openxmlformats.org/drawingml/2006/table">
            <a:tbl>
              <a:tblPr/>
              <a:tblGrid>
                <a:gridCol w="2232000"/>
                <a:gridCol w="1944720"/>
                <a:gridCol w="1081080"/>
                <a:gridCol w="863640"/>
                <a:gridCol w="504720"/>
                <a:gridCol w="2448000"/>
              </a:tblGrid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лимпи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абдуллаАхат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 Рузиля Узбе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Рамзия Ахметзак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зикова ГузельГабдрафик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 литература(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йн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вияМирзах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уснутдинова ЛилияРафаи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гматзянова Гульнара Роберт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1700280"/>
            <a:ext cx="8415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а внимание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На муниципальном этапе приняли участие: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201780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7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ащихся из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образовательных организ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28 предмета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26920" y="260280"/>
            <a:ext cx="749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ли участие на муниципальном этапе олимпиад по учебным год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44520" y="1995480"/>
            <a:ext cx="8526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826920" y="26028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участников олимпиад в разрезе предм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-50760" y="209520"/>
            <a:ext cx="91882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овых мест на муниципальном этапе олимпиад по учебным год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pic>
        <p:nvPicPr>
          <p:cNvPr id="116" name="Диаграмма 3" descr=""/>
          <p:cNvPicPr/>
          <p:nvPr/>
        </p:nvPicPr>
        <p:blipFill>
          <a:blip r:embed="rId1"/>
          <a:stretch/>
        </p:blipFill>
        <p:spPr>
          <a:xfrm>
            <a:off x="200160" y="2006640"/>
            <a:ext cx="8886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/>
          <p:cNvSpPr/>
          <p:nvPr/>
        </p:nvSpPr>
        <p:spPr>
          <a:xfrm>
            <a:off x="2195640" y="620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-2021 учебный год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39640" y="2205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призовых мест -385 ( 28 %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ителей- 14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ов-  237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школ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628640"/>
          <a:ext cx="8928000" cy="5222880"/>
        </p:xfrm>
        <a:graphic>
          <a:graphicData uri="http://schemas.openxmlformats.org/drawingml/2006/table">
            <a:tbl>
              <a:tblPr/>
              <a:tblGrid>
                <a:gridCol w="5159160"/>
                <a:gridCol w="1127160"/>
                <a:gridCol w="1567080"/>
                <a:gridCol w="1074600"/>
              </a:tblGrid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средним общеобразовательным организациям 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989000"/>
          <a:ext cx="8856720" cy="4537080"/>
        </p:xfrm>
        <a:graphic>
          <a:graphicData uri="http://schemas.openxmlformats.org/drawingml/2006/table">
            <a:tbl>
              <a:tblPr/>
              <a:tblGrid>
                <a:gridCol w="5087880"/>
                <a:gridCol w="1127160"/>
                <a:gridCol w="1567080"/>
                <a:gridCol w="1074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-11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личество победителей и приз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оля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4:16:56Z</dcterms:created>
  <dc:creator>user</dc:creator>
  <dc:description/>
  <dc:language>en-US</dc:language>
  <cp:lastModifiedBy>Ильвера</cp:lastModifiedBy>
  <cp:lastPrinted>2021-03-14T13:04:04Z</cp:lastPrinted>
  <dcterms:modified xsi:type="dcterms:W3CDTF">2021-06-17T09:18:47Z</dcterms:modified>
  <cp:revision>433</cp:revision>
  <dc:subject/>
  <dc:title>Круглый стол по вопросам аттестации и государственной аккредитации  образовательных учреждений  среднего профессионального образования</dc:title>
</cp:coreProperties>
</file>